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3C9-2CEB-4687-A683-BA8D7CA4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768-1D3B-4EC6-A0B3-5BCE4031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16B-CFEA-4EB4-B45D-2E875F57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9AF-6EFF-46CA-9841-19D2C49B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098A-48A4-4853-BB87-8B7C9054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E50C-9240-4757-AC1F-3240924B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466B-558A-43BE-AD09-3A7ED186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0C48-9FCE-45F3-A794-E6D079DF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B37E-EA99-4DA0-B572-29C0BCF3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D41F-0D79-4402-BC99-6EBFD237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F530-BADB-47AD-9554-788C0919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A76-A68E-4FF3-8619-B00E2131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0746-DC5F-44D9-91A9-F1D72367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7118-89CE-4BF4-A8B0-1E266A05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1C2C-9B13-44D4-BA7C-2D3FAE6E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71DC-917F-470A-81D0-BEA9C485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BB62-A262-43E8-828C-68EB8261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E47-71A2-4679-BAC1-796B2770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3BC-A254-43D4-9DDB-C0883F7A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604-7A0F-427F-9F5C-92B28316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FD8-98B9-4614-8150-CF31AC01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9ED-A6BB-4403-B9E6-81B9211F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077-9B4E-4BC9-938D-9EAC0341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050-E2FD-4D27-8E56-5F42AC8F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8403-73CA-4837-AF8D-A92651DF3A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AFF7-4BDD-4240-8BA6-3CDF9B1D78D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57320" y="1214280"/>
            <a:ext cx="87724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λεγει τοις Φαρισαιοις∙ Ἐξεστιν ἐν τοις σαββασιν ἀγαθον ποιησαι ἠ κακοποιησα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o evil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ψυχην σωσαι ἠ μη σωσ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μην ἀμην λεγω, ὁ πιστευων ἐχει ζωην αἰων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ἐντολη αὐτου ἐστιν ζωη αἰωνιο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τα προβατα την φωνην αὐτου ἀκουει και τα ἰδια προβατα ἀκολουθει ὀπισω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ἀδελφη ἡ πιστη ἐκραζεν τῳ Ἰησου∙ Ἐλεησον, κυριε υἱε Δαυιδ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ἐκηρυξεν ὁ Ἰησους λεγων∙ Μετανοειτε και πιστευετε ἐν τῳ εὐαγγελιῳ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14200" y="1711440"/>
            <a:ext cx="8001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 τῳ ὀχλῳ συν τοις ἀποστολοις αὐτου∙ Εἰ θελεις ὀπισω του κυριου ἀκολουθειν, δει παρρησιαν ἐχ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θρωπος εἰμι ὑπο ἐξουσιαν, και λεγω δουλῳ∙ Ποιησον αὐτο, και ποι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was telling a parable concerning j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not lead blind animals up into the te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you (pl.) looking at the tom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was speaking in parables but with 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τα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] auth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57320" y="1357200"/>
            <a:ext cx="877248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 δοκειτε λεγειν∙ Ἐσμεν υἱοι του Ἀβραα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Φαρισαιοι καταργουσιν την ἐντολην της ἀγαπ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οι συνηγον θεωρειν το μνημε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 αὐτῳ∙ Ἀκολουθει τῳ Ἰησου και μαρτυρ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προσκυνειν τῳ θεῳ δια την δοξαν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εν ὁ ἀγγελος αὐτοις∙ Ἀκολουθειτε ὀπισω της φωνης αὐτου και μαρτυρειτε παρρησιᾳ και χαρᾳ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1711440"/>
            <a:ext cx="800100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ποστολοι ἐκηρυσσον το εὐαγγελιον λεγοντες∙ Μετανοιετ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 δαιμονιον ἐδησεν αὐτην ἀλλ’ οἱ Φαρισσαιοι λεγουσιν∙ Οὐ δει και οὐκ ἐξεστιν αὐτην ἀπο του πονηρου ἐν τῳ σαββα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ople do not seek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man bound Paul, but an angel released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rd, open the eyes of th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 about to bear witness concerning the righteousness of Chr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3809880" y="12142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69000" y="16430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John 3.4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00040" y="2286000"/>
            <a:ext cx="8286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ᾶ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veryon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οιῶν τὴν ἁματίαν καὶ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so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ὴν ἀνομία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ωομία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awlessnes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εῖ, καὶ ἡ ἁμαρτία ἐστὶν ἡ ἀνομία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5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Καὶ οἴδατε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you know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ὅτ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εῖνο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at on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ανερώθη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as revealed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, ἵν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o that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ὰς ἁμαρτίας ἄρῃ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might tak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, καὶ ἁμαρτία ἐν αὐτῷ οὐκ ἔστιν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6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πᾶς ὁ ἐν αὐτῷ μένω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ένω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 remai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χ ἁμαρτάνε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μαρτανω –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Ι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 πᾶς ὁ ἁμαρτάνων οὐχ ἑώρακε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has see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ὸν οὐδὲ ἔγνωκε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has know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όν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7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εκνί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κν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δει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body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ανάτω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et him deceiv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ὑμᾶ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14200" y="1351080"/>
            <a:ext cx="892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οιῶν τὴν δικαιοσύνην δίκαιός ἐστιν, καθὼ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just a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κεῖνος δίκαιός ἐστιν∙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8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ὁ ποιῶν τὴν ἁμαρτιαν ἐκ τοῦ  διαβόλου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άβολος -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evil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στιν, ὅτι ἀπ’ ἀρχῆς ὁ διάβολος ἁμαρτάνει. εἰς τοῦτο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for this reaso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ανερώθη ὁ υἱος τοῦ θεοῦ, ἵνα λύσῃ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o that he might release/destroy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 ἔργα τοῦ διαβόλου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9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Πᾶς ὁ γεγεννημένο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aving been bor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 τοῦ θεοῦ ἁμαρτίαν οὐ ποιεῖ, ὅτι σπέρμ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eed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οῦ ἐν αὐτῷ μένει, και οὐ δύνατα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is abl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μαρτάνειν, ὅτι ἐκ τοῦ θεοῦ γεγέννητα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has been bor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10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ν τούτῳ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n this way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ανερ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revealed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ιν τὰ τέκνα τοῦ θεοῦ καὶ τὰ τέκνα τοῦ διαβόλου∙ πᾶς ὁ μὴ ποιῶν δικαιοσύνην οὐκ ἔστιν ἐκ τοῦ θεοῦ, καὶ ὁ μὴ ἀγαπῶ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oving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ὸν ἀδελφὸν αὐτοῦ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31:09Z</dcterms:created>
  <dc:creator>Sarah</dc:creator>
  <dc:description/>
  <dc:language>en-US</dc:language>
  <cp:lastModifiedBy>Sarah</cp:lastModifiedBy>
  <dcterms:modified xsi:type="dcterms:W3CDTF">2008-09-07T14:20:18Z</dcterms:modified>
  <cp:revision>26</cp:revision>
  <dc:subject/>
  <dc:title>Slide 1</dc:title>
</cp:coreProperties>
</file>